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E96-EAD3-45A1-8610-3B4AA28F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4920" y="4167360"/>
            <a:ext cx="806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3F7-6385-4002-A7CF-914B483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2736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526-66A3-414A-A1FD-2C15651B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1560" y="201780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47840" y="201780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4920" y="416736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1560" y="416736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47840" y="416736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E37-2AB1-4476-B624-59414582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CED9-71B7-46DF-8FBD-8232A9C0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E379-0939-45AC-B26C-EE19BCD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65F-941E-4010-B53C-D7D51F1F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1FE-D8A1-4B8C-AB64-E46A242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7FF0-5A68-4300-9F49-79AA2419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9010-26DB-43F9-A125-78CD17B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CEF-0426-459F-BAC6-59F2A029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4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53B-D536-4A38-B0CB-068CA74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2736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15C5-2D85-4CAF-AC1F-8D10CFA1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806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1DC1-BD19-433A-953F-56CB92E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4920" y="4167360"/>
            <a:ext cx="806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F05C-3B6B-4B42-A842-78C04AF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2736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31EE-08B1-49D1-8290-07305599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21560" y="201780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47840" y="201780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94920" y="416736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21560" y="416736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47840" y="4167360"/>
            <a:ext cx="259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E1DD-8E1B-47A1-B9C8-8823240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4C4-2D1F-41D7-9671-5C012BD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159-E951-41D7-B788-621BD7E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29E-6BCC-4AA5-B1AC-EE986DE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8AF-1E04-48B5-A410-8858F3FB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ECF-B121-4C76-8591-B2C114DB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27360" y="416736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4BD-C5A3-4F45-8C23-CD5851E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7360" y="2017800"/>
            <a:ext cx="393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806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601-0A84-4F45-B18D-5B32541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94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7750-2F11-4755-A194-CADCA29373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223C-4519-443E-BE8E-50FFB3FDE55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方正姚体"/>
              </a:rPr>
              <a:t>现场初级急救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、三角巾单眼包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２、毛巾头部包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三）骨折固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、骨折的定义：骨受到外力打击，发生完全或不完全断裂时，称骨折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２、骨折的分类：按骨折端是否与外界相通分为（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）闭合性骨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２）开放性骨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３、骨折的判断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）疼痛和压痛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２）肿胀；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３）畸形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４）功能障碍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054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４、骨折固定的材料：木制、铁制、塑料制临时夹板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时夹板有木板、木棒、树枝、竹竿等。无临时夹板可固定于伤员躯干或健肢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４、骨折固定的要领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止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包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固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、前臂骨折固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大腿骨折固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四）搬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、搬运伤员的定义：伤员进行初步救护后，必须迅速安全地将伤员送到医院或救护站进一步治疗，称搬运伤员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２、搬运伤员的目的：使伤员能迅速得到医疗机构及时抢救治疗，并及早离开受伤现场，以免延误抢救治疗时机，并可防止再次受伤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3960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３、搬运的方法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）徒手搬运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２）双人搬运法；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３）就地取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27640" y="24922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前   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7488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着社会的进步、经济的发展、人民生活水平的提高，人类生活新的模式结构也在不断的转换。利用“科学先进化、信息网络化、知识普及化、急救现场化”的救护新概念的理念和内涵，向公众普及救护知识，使其掌握先进的基本救护理念与技能，成为“第一目击者”，以便能在现场及时有效地开展救护，从而达到“挽救生命、减轻伤残”的目的，为安全生产、健康生活提供必要的保障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一章、现场挽救生命的原则和步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场急救的目的：挽救生命、减少伤残、减轻痛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场急救的原则：先救命、后治伤；先重伤、后轻伤；先近后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场评估：一看、二听、三闻加思考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一）止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分类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１）内出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２）外出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指压止血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橡皮带止血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二）包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的：保护伤口，减少感染，压迫止血，骨折固定，减少疼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：伤口封闭要严密，防止污染伤口，松紧适宜，固定牢靠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二）包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领：快、准、轻、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作要快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敷料盖准后不要移动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轻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作要轻，不要碰撞伤口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牢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扎要牢靠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章、现场初级急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064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二）包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上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场不涂药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触摸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手不许碰伤口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匕首、利器等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内脏外露、骨折突出部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3:15:28Z</dcterms:created>
  <dc:creator>赵国强</dc:creator>
  <dc:description/>
  <dc:language>en-US</dc:language>
  <cp:lastModifiedBy>user</cp:lastModifiedBy>
  <dcterms:modified xsi:type="dcterms:W3CDTF">2005-04-06T12:05:53Z</dcterms:modified>
  <cp:revision>21</cp:revision>
  <dc:subject/>
  <dc:title>现场初级急救</dc:title>
</cp:coreProperties>
</file>